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1ED-70C3-4E9E-92C0-F65E904C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E4A-3943-46D9-A1D9-FD6AE7F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B0C-B643-4311-B1C0-C7940CFA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167-C9AE-4147-B5DD-2798F761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78A-DCEE-461A-9554-75565146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4A0-D9F1-459C-9D07-4D874C5D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95B-4FC7-414F-8D58-4CD5FE1B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665-FF58-4247-9B04-859FEDF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2F9-873F-40DD-9C88-9EB71C0A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EA7-ACCE-497C-9946-7A1C34A5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DF-9F16-44E6-BF87-C4020B1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D5A-0521-4648-A2AC-3A9ED39E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075-3A5D-48DF-85BF-0AFBF4624D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2714760"/>
            <a:ext cx="6843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.В. Михалков «Мой щен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214200"/>
            <a:ext cx="900108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группа и 4 группа-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те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ите те слова, которые характеризуют девочку и щенка. Обоснуй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группа: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ноду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ст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14640" y="1428480"/>
            <a:ext cx="4329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группа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о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сл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уп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пы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луш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ловл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00120" y="54291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Способ проверки: отчет о работе 1 ученика из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давайте выясним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в доме есть животное- это хорошо или плохо?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люсы и мину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оске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жать дома животное-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1760" y="3429000"/>
          <a:ext cx="4929120" cy="1785960"/>
        </p:xfrm>
        <a:graphic>
          <a:graphicData uri="http://schemas.openxmlformats.org/drawingml/2006/table">
            <a:tbl>
              <a:tblPr/>
              <a:tblGrid>
                <a:gridCol w="2095200"/>
                <a:gridCol w="2833920"/>
              </a:tblGrid>
              <a:tr h="595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ох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5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57120" y="285840"/>
            <a:ext cx="8501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м тренажере спрятался герой нового произведения. Найдите 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щ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 е  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  н 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  о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  к 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наша дикция была четкой, учимся произносить скороговор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ва щенка щека к ще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иплют щетку в уго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ыразительного чтения, нужно уметь правильно ставить логическое ударение. Прочитайте предложения, выделяя голосом выделенное слов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юблю играть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грать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ть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играть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это предложение по кругу. (Я, я люблю, я люблю играть, я люблю играть  с щенк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ем длинные слова из текста сначала по слогам, затем слов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-кры-вать-ся  - покрыва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-ре-ко-ше-на  -перекош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-ку-тан-ный    - укут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-бин-то-ван-ный -забинтов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14280" y="1000080"/>
            <a:ext cx="6858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шем щеткой мы щ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ет шерстка так мяг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чет радостный щен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рыть он радости не мо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Лиля\Рабочий стол\yorkshire-para-adocao-2.jpg"/>
          <p:cNvPicPr/>
          <p:nvPr/>
        </p:nvPicPr>
        <p:blipFill>
          <a:blip r:embed="rId1"/>
          <a:stretch/>
        </p:blipFill>
        <p:spPr>
          <a:xfrm>
            <a:off x="3357720" y="4071960"/>
            <a:ext cx="2309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0" y="0"/>
            <a:ext cx="9144000" cy="84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арная рабо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групповая работа- методика «Верно-неверн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объясняет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бан  ( ведро для воды,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вшин с крышкой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1 группа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довка (заведующая складом, помещение для хранения клада, пристройка к дому, где хранятся вещи и продук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2  группа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челиный рой (семья пчёл, пчелиные гон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3 группа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билась с ног  (измучиться, сбить себе ног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4группа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жит пластом (лежать на пластыре, вытянуться, лежать не шевеляс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57160" y="1357200"/>
          <a:ext cx="7929720" cy="4754520"/>
        </p:xfrm>
        <a:graphic>
          <a:graphicData uri="http://schemas.openxmlformats.org/drawingml/2006/table">
            <a:tbl>
              <a:tblPr/>
              <a:tblGrid>
                <a:gridCol w="3252960"/>
                <a:gridCol w="4676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лад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жать на пласты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тяну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ежать не шевеля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жит пласт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змуч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бить себе н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билась с но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мья пчё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челиные го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челиный р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ведующая складом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мещение для хранения к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стройка к дому, где хранятся вещи и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4" name="TextBox 3"/>
          <p:cNvSpPr/>
          <p:nvPr/>
        </p:nvSpPr>
        <p:spPr>
          <a:xfrm>
            <a:off x="785880" y="2858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а представления ответа виде табл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428760"/>
            <a:ext cx="85723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держанием текста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работа в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группа и 2 группа-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е плана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ите пропущенные пункты пл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группа: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я щ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всех бу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ернул жбан с мё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лез лапой в к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группа: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ени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е имя 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кнет под дожд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6-01-31T18:37:11Z</dcterms:modified>
  <cp:revision>59</cp:revision>
  <dc:subject/>
  <dc:title>Моделирование учебного занятия  по формированию метапредметных или личностных результатов</dc:title>
</cp:coreProperties>
</file>